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F4A-0346-48B2-9927-24DB27E5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716-B3D4-44EB-A40E-03ACE0E0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3A1-2BA7-446C-A45C-B14DD52D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E7A-B4DC-471A-8B18-25CE2511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C0A-C77C-481A-B8B9-A6BD4A40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B78-99F0-4452-8F5A-5C8F053E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A3E-DE4F-403B-B3DD-5BC28695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A5D-E96B-4B92-900C-992AA584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0F6-20ED-447B-9499-E3D3733C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152-0525-4B1D-9BE9-9E023EC1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67E-C480-4CB8-942C-A7ADBE1A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A18-1E2D-479E-92C7-2E5BB62A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2AA3-B710-41A4-8E1C-29AFCD5C9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hyperlink" Target="http://www.school-wires.wikispaces.com/" TargetMode="External"/><Relationship Id="rId3" Type="http://schemas.openxmlformats.org/officeDocument/2006/relationships/hyperlink" Target="http://www.school-wires.wikispaces.com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Into School W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r email logi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Your email 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the school’s web pag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“Sign I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238880" cy="4343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162920" y="3048120"/>
            <a:ext cx="8380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2209680"/>
            <a:ext cx="914400" cy="838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 your email log-in name and password.  Then click “Sign In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84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95480" y="4648320"/>
            <a:ext cx="2590920" cy="16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962520"/>
            <a:ext cx="1905120" cy="99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m the “Teachers” menu choose your na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3809880"/>
            <a:ext cx="609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057400" y="2514600"/>
            <a:ext cx="533520" cy="1371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4800600" cy="461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6781680" y="2666880"/>
            <a:ext cx="1447920" cy="1371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click “Site Manag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67680" cy="4876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772400" y="2743200"/>
            <a:ext cx="1219320" cy="5335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1880" y="1143000"/>
            <a:ext cx="0" cy="1523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Site Manager” page will open in a new window.</a:t>
            </a:r>
            <a:br>
              <a:rPr sz="4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lick here to return to th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wik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0:13:15Z</dcterms:created>
  <dc:creator>%$#@1</dc:creator>
  <dc:description/>
  <dc:language>en-US</dc:language>
  <cp:lastModifiedBy>%$#@1</cp:lastModifiedBy>
  <dcterms:modified xsi:type="dcterms:W3CDTF">2010-04-27T00:28:53Z</dcterms:modified>
  <cp:revision>4</cp:revision>
  <dc:subject/>
  <dc:title>Logging Into School Wires</dc:title>
</cp:coreProperties>
</file>